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93C2-12E9-4B83-B539-4ACFCD1999C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B943-D443-41C7-9C77-EF666E4D6A2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537B-6B73-4E76-94F5-2E008E02701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79F3-084D-4795-B03A-E986204BD6A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39BD-1797-4EAC-923B-51F49095D0C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607E-6720-4C32-BC91-AEC3E28E3E8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0916-95D5-4675-B2D8-3AE6B3CD1D7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0601-51E8-48A6-9D25-8EBE5C1F2C3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A855-B83C-4CCB-BF09-3ABA8B28C00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FA72-C815-45A0-B5E0-8611A3117BD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02B1-BF00-4BE3-83BB-5B71F80DCB6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1008-480E-4B52-9082-169843F7E9B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90B2-1A58-4E3F-9DE5-0DA51632D3A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A57C-6C0E-4513-8FD1-65C7EBEDF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A138-7CA5-48CB-9504-4A76325C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1956-325C-4D52-9BAD-921BCA50C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A012-F871-468B-B7EB-F8CD5BA30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F0B5-BBAA-4D26-8307-BD8CE2F9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FEEE-70AE-4792-9ACD-F3E7CD43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4D90-AD7F-42B6-87E0-1934322E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CCBA-0A89-41A2-8E23-6D55193C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F49B-34A6-4ECB-822C-5D0A5FE2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091F-F7C3-4919-83FB-37B03DF9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46A3-21C1-44A4-815D-076D8655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FCFF-EC5C-4E5F-B1DC-DB875BA6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63E3-2CEE-425F-9D0B-81AA5B29380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Process modelling and optimization 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FONTEIX Christ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fessor of Chemical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iversity of Lorr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actions and Process Engineering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"/>
          <p:cNvPicPr/>
          <p:nvPr/>
        </p:nvPicPr>
        <p:blipFill>
          <a:blip r:embed="rId1"/>
          <a:stretch/>
        </p:blipFill>
        <p:spPr>
          <a:xfrm>
            <a:off x="714240" y="714240"/>
            <a:ext cx="2170080" cy="857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4537080" y="428760"/>
            <a:ext cx="892080" cy="1153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7072200" y="519120"/>
            <a:ext cx="129240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onstrained optimization</a:t>
            </a:r>
            <a:br>
              <a:rPr sz="36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rticular case of mono criterion optimization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Connecteur droit avec flèche 11"/>
          <p:cNvCxnSpPr/>
          <p:nvPr/>
        </p:nvCxnSpPr>
        <p:spPr>
          <a:xfrm flipV="1">
            <a:off x="4427280" y="1704600"/>
            <a:ext cx="1080" cy="389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8" name="Connecteur droit avec flèche 12"/>
          <p:cNvCxnSpPr/>
          <p:nvPr/>
        </p:nvCxnSpPr>
        <p:spPr>
          <a:xfrm>
            <a:off x="900000" y="4152600"/>
            <a:ext cx="73447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9" name="ZoneTexte 8"/>
          <p:cNvSpPr/>
          <p:nvPr/>
        </p:nvSpPr>
        <p:spPr>
          <a:xfrm>
            <a:off x="8030880" y="4297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onnecteur droit 10"/>
          <p:cNvSpPr/>
          <p:nvPr/>
        </p:nvSpPr>
        <p:spPr>
          <a:xfrm>
            <a:off x="1258920" y="1920960"/>
            <a:ext cx="1512720" cy="230508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onnecteur droit 12"/>
          <p:cNvSpPr/>
          <p:nvPr/>
        </p:nvSpPr>
        <p:spPr>
          <a:xfrm flipH="1">
            <a:off x="6300720" y="2209680"/>
            <a:ext cx="1727280" cy="1943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onnecteur droit 14"/>
          <p:cNvSpPr/>
          <p:nvPr/>
        </p:nvSpPr>
        <p:spPr>
          <a:xfrm>
            <a:off x="2771640" y="4152960"/>
            <a:ext cx="3529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-830160" y="1557360"/>
          <a:ext cx="5727600" cy="5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30160" y="1557360"/>
                    <a:ext cx="572760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5"/>
          <p:cNvGraphicFramePr/>
          <p:nvPr/>
        </p:nvGraphicFramePr>
        <p:xfrm>
          <a:off x="4464000" y="1846440"/>
          <a:ext cx="5726160" cy="54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64000" y="1846440"/>
                    <a:ext cx="572616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Connecteur droit 15"/>
          <p:cNvSpPr/>
          <p:nvPr/>
        </p:nvSpPr>
        <p:spPr>
          <a:xfrm>
            <a:off x="2771640" y="4226040"/>
            <a:ext cx="5256360" cy="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onnecteur droit 21"/>
          <p:cNvSpPr/>
          <p:nvPr/>
        </p:nvSpPr>
        <p:spPr>
          <a:xfrm flipH="1">
            <a:off x="4211640" y="1844640"/>
            <a:ext cx="1944720" cy="28796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nnecteur droit 23"/>
          <p:cNvSpPr/>
          <p:nvPr/>
        </p:nvSpPr>
        <p:spPr>
          <a:xfrm flipH="1">
            <a:off x="1042920" y="4724280"/>
            <a:ext cx="3168720" cy="6494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onnecteur droit 25"/>
          <p:cNvSpPr/>
          <p:nvPr/>
        </p:nvSpPr>
        <p:spPr>
          <a:xfrm>
            <a:off x="2771640" y="4221000"/>
            <a:ext cx="0" cy="8636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onnecteur droit 27"/>
          <p:cNvSpPr/>
          <p:nvPr/>
        </p:nvSpPr>
        <p:spPr>
          <a:xfrm flipH="1" flipV="1">
            <a:off x="971640" y="4581360"/>
            <a:ext cx="1800000" cy="432000"/>
          </a:xfrm>
          <a:prstGeom prst="line">
            <a:avLst/>
          </a:prstGeom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5"/>
          <p:cNvGraphicFramePr/>
          <p:nvPr/>
        </p:nvGraphicFramePr>
        <p:xfrm>
          <a:off x="-2052720" y="4226040"/>
          <a:ext cx="5958000" cy="57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2052720" y="4226040"/>
                    <a:ext cx="5958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8"/>
          <p:cNvGraphicFramePr/>
          <p:nvPr/>
        </p:nvGraphicFramePr>
        <p:xfrm>
          <a:off x="2286000" y="2276640"/>
          <a:ext cx="5958000" cy="571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5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2276640"/>
                    <a:ext cx="5958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onstrained optimization</a:t>
            </a:r>
            <a:br>
              <a:rPr sz="60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itialization of domination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(x)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4171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4171f"/>
                </a:solidFill>
                <a:latin typeface="Arial"/>
              </a:rPr>
              <a:t>The number of transgress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c18f4"/>
                </a:solidFill>
                <a:latin typeface="Arial"/>
              </a:rPr>
              <a:t>AFTER to a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4171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4171f"/>
                </a:solidFill>
                <a:latin typeface="Arial"/>
              </a:rPr>
              <a:t>The number of dominations for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onstrained optimization</a:t>
            </a:r>
            <a:br>
              <a:rPr sz="48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21"/>
              <p:cNvSpPr txBox="1"/>
              <p:nvPr/>
            </p:nvSpPr>
            <p:spPr>
              <a:xfrm>
                <a:off x="2808360" y="2398680"/>
                <a:ext cx="34401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22"/>
              <p:cNvSpPr txBox="1"/>
              <p:nvPr/>
            </p:nvSpPr>
            <p:spPr>
              <a:xfrm>
                <a:off x="2577960" y="3141720"/>
                <a:ext cx="38656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23"/>
              <p:cNvSpPr txBox="1"/>
              <p:nvPr/>
            </p:nvSpPr>
            <p:spPr>
              <a:xfrm>
                <a:off x="2263680" y="3933720"/>
                <a:ext cx="443556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24"/>
              <p:cNvSpPr txBox="1"/>
              <p:nvPr/>
            </p:nvSpPr>
            <p:spPr>
              <a:xfrm>
                <a:off x="2620800" y="5649840"/>
                <a:ext cx="36608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3" name="Object 25"/>
          <p:cNvGraphicFramePr/>
          <p:nvPr/>
        </p:nvGraphicFramePr>
        <p:xfrm>
          <a:off x="1476360" y="4797360"/>
          <a:ext cx="589608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4797360"/>
                    <a:ext cx="58960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onstrained optimization</a:t>
            </a:r>
            <a:br>
              <a:rPr sz="48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-252360" y="1963800"/>
            <a:ext cx="927576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ocess modelling and optimization aid</a:t>
            </a:r>
            <a:br>
              <a:rPr sz="4400"/>
            </a:br>
            <a:br>
              <a:rPr sz="2000"/>
            </a:br>
            <a:r>
              <a:rPr b="1" lang="en-GB" sz="3600" spc="-1" strike="noStrike">
                <a:solidFill>
                  <a:srgbClr val="f4171f"/>
                </a:solidFill>
                <a:latin typeface="Arial"/>
              </a:rPr>
              <a:t>Constrained optim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120" y="41911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FONTEIX Christ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ofessor of Chemical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iversity of Lorr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actions and Process Engineering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constra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straints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4171f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18f4"/>
                </a:solidFill>
                <a:latin typeface="Arial"/>
              </a:rPr>
              <a:t>Must be change in 2 constraint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6"/>
          <p:cNvGraphicFramePr/>
          <p:nvPr/>
        </p:nvGraphicFramePr>
        <p:xfrm>
          <a:off x="1332000" y="2492280"/>
          <a:ext cx="5883120" cy="5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492280"/>
                    <a:ext cx="588312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7"/>
          <p:cNvGraphicFramePr/>
          <p:nvPr/>
        </p:nvGraphicFramePr>
        <p:xfrm>
          <a:off x="1332000" y="3738600"/>
          <a:ext cx="5871960" cy="84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3738600"/>
                    <a:ext cx="587196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8"/>
          <p:cNvGraphicFramePr/>
          <p:nvPr/>
        </p:nvGraphicFramePr>
        <p:xfrm>
          <a:off x="1347840" y="5186520"/>
          <a:ext cx="5799240" cy="58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47840" y="5186520"/>
                    <a:ext cx="579924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9"/>
          <p:cNvGraphicFramePr/>
          <p:nvPr/>
        </p:nvGraphicFramePr>
        <p:xfrm>
          <a:off x="1332000" y="5792760"/>
          <a:ext cx="5798880" cy="58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32000" y="5792760"/>
                    <a:ext cx="57988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omain of constraints accep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onnecteur droit avec flèche 5"/>
          <p:cNvCxnSpPr/>
          <p:nvPr/>
        </p:nvCxnSpPr>
        <p:spPr>
          <a:xfrm flipV="1">
            <a:off x="4427280" y="1915560"/>
            <a:ext cx="1080" cy="388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Connecteur droit avec flèche 7"/>
          <p:cNvCxnSpPr/>
          <p:nvPr/>
        </p:nvCxnSpPr>
        <p:spPr>
          <a:xfrm>
            <a:off x="900000" y="4365360"/>
            <a:ext cx="73447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ZoneTexte 8"/>
          <p:cNvSpPr/>
          <p:nvPr/>
        </p:nvSpPr>
        <p:spPr>
          <a:xfrm>
            <a:off x="8030880" y="450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onnecteur droit 10"/>
          <p:cNvSpPr/>
          <p:nvPr/>
        </p:nvSpPr>
        <p:spPr>
          <a:xfrm>
            <a:off x="1258920" y="2133720"/>
            <a:ext cx="2665440" cy="403200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onnecteur droit 12"/>
          <p:cNvSpPr/>
          <p:nvPr/>
        </p:nvSpPr>
        <p:spPr>
          <a:xfrm flipH="1">
            <a:off x="4859280" y="2421000"/>
            <a:ext cx="3168720" cy="374472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onnecteur droit 14"/>
          <p:cNvSpPr/>
          <p:nvPr/>
        </p:nvSpPr>
        <p:spPr>
          <a:xfrm>
            <a:off x="2771640" y="4365720"/>
            <a:ext cx="3529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4"/>
          <p:cNvGraphicFramePr/>
          <p:nvPr/>
        </p:nvGraphicFramePr>
        <p:xfrm>
          <a:off x="-830160" y="1768320"/>
          <a:ext cx="5654520" cy="5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30160" y="1768320"/>
                    <a:ext cx="565452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5"/>
          <p:cNvGraphicFramePr/>
          <p:nvPr/>
        </p:nvGraphicFramePr>
        <p:xfrm>
          <a:off x="4464000" y="2057400"/>
          <a:ext cx="5726160" cy="54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64000" y="2057400"/>
                    <a:ext cx="572616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omain of constraints acceptance</a:t>
            </a:r>
            <a:br>
              <a:rPr sz="36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y multicriteria 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Connecteur droit avec flèche 5"/>
          <p:cNvCxnSpPr/>
          <p:nvPr/>
        </p:nvCxnSpPr>
        <p:spPr>
          <a:xfrm flipV="1">
            <a:off x="4427280" y="2275920"/>
            <a:ext cx="1080" cy="388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Connecteur droit avec flèche 7"/>
          <p:cNvCxnSpPr/>
          <p:nvPr/>
        </p:nvCxnSpPr>
        <p:spPr>
          <a:xfrm>
            <a:off x="900000" y="4723920"/>
            <a:ext cx="73447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ZoneTexte 8"/>
          <p:cNvSpPr/>
          <p:nvPr/>
        </p:nvSpPr>
        <p:spPr>
          <a:xfrm>
            <a:off x="8030880" y="486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onnecteur droit 10"/>
          <p:cNvSpPr/>
          <p:nvPr/>
        </p:nvSpPr>
        <p:spPr>
          <a:xfrm>
            <a:off x="1258920" y="2492280"/>
            <a:ext cx="1512720" cy="230508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onnecteur droit 12"/>
          <p:cNvSpPr/>
          <p:nvPr/>
        </p:nvSpPr>
        <p:spPr>
          <a:xfrm flipH="1">
            <a:off x="6300720" y="2781360"/>
            <a:ext cx="1727280" cy="1942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onnecteur droit 14"/>
          <p:cNvSpPr/>
          <p:nvPr/>
        </p:nvSpPr>
        <p:spPr>
          <a:xfrm>
            <a:off x="2771640" y="4724280"/>
            <a:ext cx="3529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4"/>
          <p:cNvGraphicFramePr/>
          <p:nvPr/>
        </p:nvGraphicFramePr>
        <p:xfrm>
          <a:off x="-830160" y="2128680"/>
          <a:ext cx="5727600" cy="5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30160" y="2128680"/>
                    <a:ext cx="572760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Object 5"/>
          <p:cNvGraphicFramePr/>
          <p:nvPr/>
        </p:nvGraphicFramePr>
        <p:xfrm>
          <a:off x="4464000" y="2417760"/>
          <a:ext cx="5726160" cy="54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64000" y="2417760"/>
                    <a:ext cx="572616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Connecteur droit 15"/>
          <p:cNvSpPr/>
          <p:nvPr/>
        </p:nvSpPr>
        <p:spPr>
          <a:xfrm>
            <a:off x="2771640" y="4797360"/>
            <a:ext cx="5256360" cy="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ransformation of the constraints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he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ust be change in functions to be minim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4"/>
          <p:cNvGraphicFramePr/>
          <p:nvPr/>
        </p:nvGraphicFramePr>
        <p:xfrm>
          <a:off x="1332000" y="2492280"/>
          <a:ext cx="5883120" cy="5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492280"/>
                    <a:ext cx="588312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7"/>
          <p:cNvGraphicFramePr/>
          <p:nvPr/>
        </p:nvGraphicFramePr>
        <p:xfrm>
          <a:off x="1403280" y="4149720"/>
          <a:ext cx="5958000" cy="58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4149720"/>
                    <a:ext cx="595800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onstrained optim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nimization of F(x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mber of time that x is dominated by an other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int of th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18f4"/>
                </a:solidFill>
                <a:latin typeface="Arial"/>
              </a:rPr>
              <a:t>Calculation of F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4171f"/>
                </a:solidFill>
                <a:latin typeface="Arial"/>
              </a:rPr>
              <a:t>If x and y are in the domain of constraints acceptanc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4171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4171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4171f"/>
                </a:solidFill>
                <a:latin typeface="Arial"/>
              </a:rPr>
              <a:t>domination by the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4171f"/>
                </a:solidFill>
                <a:latin typeface="Arial"/>
              </a:rPr>
              <a:t>If x and y are in the unauthorised domai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4171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4171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4171f"/>
                </a:solidFill>
                <a:latin typeface="Arial"/>
              </a:rPr>
              <a:t>domination by the constraints’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onstrained optim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nimization of F(x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mber of time that x is dominated by an other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int of th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18f4"/>
                </a:solidFill>
                <a:latin typeface="Arial"/>
              </a:rPr>
              <a:t>Calculation of F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4171f"/>
                </a:solidFill>
                <a:latin typeface="Arial"/>
              </a:rPr>
              <a:t>If y is in the domain of constraints acceptance and not x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4171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4171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4171f"/>
                </a:solidFill>
                <a:latin typeface="Arial"/>
              </a:rPr>
              <a:t>domination of x by the functions (only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onstrained optim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rticular case of mono criterion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18f4"/>
                </a:solidFill>
                <a:latin typeface="Arial"/>
              </a:rPr>
              <a:t>If y is in the domain of constraints acceptance and not x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18f4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c18f4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c18f4"/>
                </a:solidFill>
                <a:latin typeface="Arial"/>
              </a:rPr>
              <a:t>domination of x by the functions (only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Modification of the function (for minimization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Wher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Arial"/>
              </a:rPr>
              <a:t>min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s the minimum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 the acceptance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6"/>
          <p:cNvGraphicFramePr/>
          <p:nvPr/>
        </p:nvGraphicFramePr>
        <p:xfrm>
          <a:off x="1582560" y="4667400"/>
          <a:ext cx="5896080" cy="61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2560" y="4667400"/>
                    <a:ext cx="589608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09:33:56Z</dcterms:created>
  <dc:creator>Sylvette FONTEIX</dc:creator>
  <dc:description/>
  <dc:language>en-US</dc:language>
  <cp:lastModifiedBy>Christian Fonteix</cp:lastModifiedBy>
  <dcterms:modified xsi:type="dcterms:W3CDTF">2012-03-13T17:46:25Z</dcterms:modified>
  <cp:revision>140</cp:revision>
  <dc:subject/>
  <dc:title>Process modelling and optimisation aid</dc:title>
</cp:coreProperties>
</file>